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2D76-0642-45AC-8154-ABBA6D0E3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87D8-C257-4569-989F-5D642ABC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2788-E9BF-4A80-87B1-1218C3FCF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9E28-065F-421F-B468-682019DCB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F0A5-F00B-4360-BA28-EA8E8539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9F88-E60A-4CFF-A035-97FA040B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A18A-B62C-47C0-8698-04CA7AD0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5D18-20EC-41F7-8034-984A7227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9C5F-97F4-4E39-8D8F-512532DD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E7E9-3596-493D-B6D7-5E0B601D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DE50-3D5C-404F-9BED-F71FD92D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5C17-316D-425C-A9FF-7DA20978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1CA9-9CC9-4D3E-AD81-E098FCBDEF79}" type="slidenum"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Continental Seminar on Food Security – Africa</a:t>
            </a:r>
            <a:br>
              <a:rPr sz="2800"/>
            </a:b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ommision of The European Communities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800"/>
            </a:b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 12-16 March, Nairobi (Kenya)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2057040"/>
            <a:ext cx="7696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La crise alimentaire de 2005 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au Niger</a:t>
            </a: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 :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Le Dispositif national face à la crise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Johny EGG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INRA / IRAM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(Montpellier , France)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162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Zones Agro-Ecologique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619760" cy="4495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flipV="1">
            <a:off x="6705720" y="3200040"/>
            <a:ext cx="533160" cy="228600"/>
          </a:xfrm>
          <a:prstGeom prst="line">
            <a:avLst/>
          </a:prstGeom>
          <a:ln w="9360">
            <a:solidFill>
              <a:srgbClr val="ffff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162920" y="28954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99"/>
                </a:solidFill>
                <a:latin typeface="Verdana"/>
              </a:rPr>
              <a:t>Bilma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29400" y="3429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I. Le Dispositif national du Niger face à la crise de 2004-2005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. Caractérisation de la crise alimentaire 2005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Une crise alimentaire sévère qui résulte d’une combinaison de facteurs conjoncturels et structurels 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ne crise d’accessibilité sur fond de déficit d’offre …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358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roduction céréalière insuffisante et  déficit fourrager très important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iveau de prix des céréales très élevé…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ffet  intégration  marché  régional)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Baisse prix bétail, oignons et commerc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809880" y="1981080"/>
          <a:ext cx="5181840" cy="400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981080"/>
                    <a:ext cx="5181840" cy="40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ne crise sévère pour tous les ménages vulnérabl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Dénominateur commun : forte hausse des prix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dans contexte écon familiales précarisée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Diversité des stratégies et des situation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Intensification des stratégies d’atténuation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des ménages sédentaires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(cas région Maradi)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Exode précoce et prolongé de tous les jeunes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Forte consommation de feuille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Décapitalisation des ressource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Recours aux moins vulnérable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ne crise nutritionnelle « révélée »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outes les enquêtes nutritionnelles anthropométriques réalisées en 2005 au Niger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ont donné :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es  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révalences de malnutrition aiguë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(poids-taille &lt;-2ET) dans la population des enfants de moins de 5 ans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toujours graves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(≥ 10%)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t souvent critiques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(≥15%), comparables aux situations de guerre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outes les régions sont touchées (zones vulnérables ou non sur le plan alimentaire).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e </a:t>
            </a:r>
            <a:r>
              <a:rPr b="0" lang="en-US" sz="28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paradoxe apparent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réside dans la complexité des causes de malnutrition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avec une intrication de la sécurité alimentaire, de l'environnement social et de la santé.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66920" y="3252960"/>
            <a:ext cx="5560920" cy="755640"/>
          </a:xfrm>
          <a:prstGeom prst="rect">
            <a:avLst/>
          </a:prstGeom>
          <a:solidFill>
            <a:srgbClr val="ff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66920" y="1714680"/>
            <a:ext cx="5560920" cy="153324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66920" y="4765680"/>
            <a:ext cx="5560920" cy="755640"/>
          </a:xfrm>
          <a:prstGeom prst="rect">
            <a:avLst/>
          </a:prstGeom>
          <a:solidFill>
            <a:srgbClr val="00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66920" y="4005360"/>
            <a:ext cx="5560920" cy="755640"/>
          </a:xfrm>
          <a:prstGeom prst="rect">
            <a:avLst/>
          </a:prstGeom>
          <a:solidFill>
            <a:srgbClr val="ff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0" y="1468440"/>
          <a:ext cx="7896240" cy="523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68440"/>
                    <a:ext cx="7896240" cy="52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1835280" y="126828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99"/>
                </a:solidFill>
                <a:latin typeface="Arial"/>
              </a:rPr>
              <a:t>(% d’enfants de 6 à 59 mois avec un Poids-Taille &lt; - 2 ET)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030880" y="350028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99"/>
                </a:solidFill>
                <a:latin typeface="Arial"/>
              </a:rPr>
              <a:t>Grave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957800" y="249228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99"/>
                </a:solidFill>
                <a:latin typeface="Arial"/>
              </a:rPr>
              <a:t>Critique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957080" y="494172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99"/>
                </a:solidFill>
                <a:latin typeface="Arial"/>
              </a:rPr>
              <a:t>Acceptable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87640" y="3429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99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957440" y="422100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99"/>
                </a:solidFill>
                <a:latin typeface="Arial"/>
              </a:rPr>
              <a:t>Mauvaise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31880" y="69480"/>
            <a:ext cx="7764480" cy="1191240"/>
          </a:xfrm>
          <a:prstGeom prst="rect">
            <a:avLst/>
          </a:prstGeom>
          <a:solidFill>
            <a:srgbClr val="ffffbd"/>
          </a:solidFill>
          <a:ln w="12600">
            <a:solidFill>
              <a:srgbClr val="000000"/>
            </a:solidFill>
            <a:miter/>
          </a:ln>
          <a:effectLst>
            <a:outerShdw dist="73964" dir="19736436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f2470"/>
                </a:solidFill>
                <a:latin typeface="Times New Roman"/>
              </a:rPr>
              <a:t>Ampleur de la crise </a:t>
            </a:r>
            <a:br>
              <a:rPr sz="2400"/>
            </a:br>
            <a:r>
              <a:rPr b="1" lang="fr-FR" sz="2400" spc="-1" strike="noStrike">
                <a:solidFill>
                  <a:srgbClr val="660066"/>
                </a:solidFill>
                <a:latin typeface="Times New Roman"/>
              </a:rPr>
              <a:t>Prévalence de malnutrition aiguë en 2005 </a:t>
            </a:r>
            <a:br>
              <a:rPr sz="2400"/>
            </a:br>
            <a:r>
              <a:rPr b="1" lang="fr-FR" sz="2400" spc="-1" strike="noStrike">
                <a:solidFill>
                  <a:srgbClr val="660066"/>
                </a:solidFill>
                <a:latin typeface="Times New Roman"/>
              </a:rPr>
              <a:t>dans plusieurs régions du Niger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42920" y="5048280"/>
            <a:ext cx="6859800" cy="887400"/>
          </a:xfrm>
          <a:prstGeom prst="rect">
            <a:avLst/>
          </a:prstGeom>
          <a:solidFill>
            <a:srgbClr val="00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4175280"/>
            <a:ext cx="6859800" cy="865080"/>
          </a:xfrm>
          <a:prstGeom prst="rect">
            <a:avLst/>
          </a:prstGeom>
          <a:solidFill>
            <a:srgbClr val="ff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42920" y="3311640"/>
            <a:ext cx="6877080" cy="863640"/>
          </a:xfrm>
          <a:prstGeom prst="rect">
            <a:avLst/>
          </a:prstGeom>
          <a:solidFill>
            <a:srgbClr val="ff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58760" y="1584360"/>
            <a:ext cx="6840720" cy="172728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-393840" y="1311120"/>
          <a:ext cx="8374320" cy="554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3840" y="1311120"/>
                    <a:ext cx="8374320" cy="55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179280" y="105264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99"/>
                </a:solidFill>
                <a:latin typeface="Arial"/>
              </a:rPr>
              <a:t>(% d’enfants de moins de 5 ans avec un Poids-Taille &lt; - 2 ET)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959600" y="335772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99"/>
                </a:solidFill>
                <a:latin typeface="Arial"/>
              </a:rPr>
              <a:t>Grave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957800" y="249228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99"/>
                </a:solidFill>
                <a:latin typeface="Arial"/>
              </a:rPr>
              <a:t>Critique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957440" y="422100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99"/>
                </a:solidFill>
                <a:latin typeface="Arial"/>
              </a:rPr>
              <a:t>Mauvaise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957080" y="508464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99"/>
                </a:solidFill>
                <a:latin typeface="Arial"/>
              </a:rPr>
              <a:t>Acceptable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2720" y="3213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99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9280" y="16200"/>
            <a:ext cx="8713800" cy="947160"/>
          </a:xfrm>
          <a:prstGeom prst="rect">
            <a:avLst/>
          </a:prstGeom>
          <a:solidFill>
            <a:srgbClr val="ffffbd"/>
          </a:solidFill>
          <a:ln w="12600">
            <a:solidFill>
              <a:srgbClr val="000000"/>
            </a:solidFill>
            <a:miter/>
          </a:ln>
          <a:effectLst>
            <a:outerShdw dist="73964" dir="19736436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4f247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660066"/>
                </a:solidFill>
                <a:latin typeface="Times New Roman"/>
              </a:rPr>
              <a:t>Comparaison des prévalences  de malnutrition aiguë  1992 – 2000 - 2005 dans plusieurs régions du Niger (1)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ne crise inscrite dans un continuum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Au total, une crise inscrite dans un continuum de dégradation des systèmes de vie des populations vulnérable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affaiblisement de la capacité d’absoption des chocs extérieur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notamment le choc des prix (les stratégies faisant davantage recours au marché)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Times New Roman"/>
              </a:rPr>
              <a:t>« la crise nous a trouvé à genoux, elle nous a mis à terre »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Times New Roman"/>
              </a:rPr>
              <a:t>« les gens ont adopté la crise »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20574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2. Chronologie de la crise alimentaire: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ne périodisation du « processus »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41907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9"/>
                </a:solidFill>
                <a:latin typeface="Times New Roman"/>
              </a:rPr>
              <a:t>Manque d’anticipation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9"/>
                </a:solidFill>
                <a:latin typeface="Times New Roman"/>
              </a:rPr>
              <a:t>et divergences de stratégies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Une crise qui interpelle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99"/>
                </a:solidFill>
                <a:latin typeface="Times New Roman"/>
              </a:rPr>
              <a:t>Une crise « non annoncée »</a:t>
            </a: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 (pas vu venir)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99"/>
                </a:solidFill>
                <a:latin typeface="Times New Roman"/>
              </a:rPr>
              <a:t>Incluant les zones de production</a:t>
            </a: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 principales !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99"/>
                </a:solidFill>
                <a:latin typeface="Times New Roman"/>
              </a:rPr>
              <a:t>Une médiatisation hors norme</a:t>
            </a: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 au </a:t>
            </a: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Sahel (20 ans)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Times New Roman"/>
              </a:rPr>
              <a:t>Médias européens (presse et TV)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Times New Roman"/>
              </a:rPr>
              <a:t>Visites : Koffi Anan, Ziegler, Roi du Maroc, Douste Blazy…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Times New Roman"/>
              </a:rPr>
              <a:t>Décalage entre médiatisation et réalité perçue « à  Niamey »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99"/>
                </a:solidFill>
                <a:latin typeface="Times New Roman"/>
              </a:rPr>
              <a:t>Un Dispositif national de prévention considéré  comme expérimenté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Times New Roman"/>
              </a:rPr>
              <a:t>Dispositifs du Sahel : les plus avancés des PMA (par défaut)  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Wingdings"/>
                <a:ea typeface="Wingdings"/>
              </a:rPr>
              <a:t></a:t>
            </a: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fr-FR" sz="2800" spc="-1" strike="noStrike" u="sng">
                <a:solidFill>
                  <a:srgbClr val="ffff99"/>
                </a:solidFill>
                <a:uFillTx/>
                <a:latin typeface="Times New Roman"/>
              </a:rPr>
              <a:t>Evaluation du Dispositif national</a:t>
            </a: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 (autres : PAM, ONG)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-4201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228600"/>
            <a:ext cx="8915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Juin - sept 2004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: fin de la lutte anti-acridienne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Octobre - janv 2005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 :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diagnostic et programmation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à partir d’un déficit jugé maîtrisable (et SNS faible)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plan d’urgence d’atténuation des crises (PAC)</a:t>
            </a:r>
            <a:r>
              <a:rPr b="0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Requête d’aide alimentaire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manque de crédibilité du signal)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Février - juin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 : 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doutes et remises en causes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Hausse des prix, difficultés approvisionnement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Révélation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de la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crise nutritionnelle (HKI-PAM, MSF)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odifie profondément le déroulement « annoncé » de la cris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er flash appeal, pression des media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passage à « l’arène internationale » (sièges des agences)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-4201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280" y="228240"/>
            <a:ext cx="87631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Juillet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: 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passage à l’urgence 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Forte  pression pour les distributions gratuites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(Médiatisation, « humanitaires, sièges)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Rupture d’approvisionnement en céréales du Dispo.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hangement de stratégie du PAM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ise institutionnelle au sein du DNPGCA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Août  – début oct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: 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distributions gratuites gén.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Les nécessités de la coordination s’imposent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oordination compliquée par gd nombre acteur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tributions gratuites grande échelle, grands moyen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Novembre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: 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difficulté de pronostic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nvelle campagne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Controverse malgré la production satisfaisante et l’excédent de fourrages (en fonction résilience)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. Caractérisation de la répo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9"/>
                </a:solidFill>
                <a:latin typeface="Times New Roman"/>
              </a:rPr>
              <a:t>Une réponse qui tarde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9"/>
                </a:solidFill>
                <a:latin typeface="Times New Roman"/>
              </a:rPr>
              <a:t>mais parvient à contenir la crise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1er temps de la réponse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La stratégie d’atténuation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: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Peu d’impact en raison :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sous dimensionnement du plan d’urgence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sous réalisation, suite difficultés d’approvisionnement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PAC :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actions utiles mais réponse non  adaptée à difficultés d’envergure : lourdes à organiser + handicap manque disponibilités de céréale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Ventes à prix modérés :  réalisées à 50%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Appréciées, mais volumes insuffisants pour avoir impact significatif sur ménages et sur prix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2ème temps de la réponse : l’urgenc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Les distributions gratuites à grande échelle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: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uccès opérationnel global :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lus de 60.000 t de céréales  distribuées en deux mois durant la saison des pluies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dont 43.500 t par le PAM et 18.200 t par le Dispositif)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ais ambitions initiales de ciblage des ménages  abandonnée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Impact important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(seules aides significatives, 20 j.)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mais limité par période tardive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Effets pervers sur actions de développement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(banques de céréales, crédit, prise en charge…)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807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entres de récupération nutritionnelle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RENI, CRENAS, CRENA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16000" y="1371600"/>
            <a:ext cx="77724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Garamond"/>
              </a:rPr>
              <a:t>Janvier 2005  : 1 CRENI et 7 CRENA sur Maradi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Garamond"/>
              </a:rPr>
              <a:t>Juillet 2005 : 1 Protocole National de prise en charge de la malnutritio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Garamond"/>
              </a:rPr>
              <a:t>Juillet – décembre  : plus de 800 centres - 25 ONG – 335.000 enfants traités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69960" y="2700360"/>
            <a:ext cx="64087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II. Principaux enseigne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09480" y="4419720"/>
            <a:ext cx="78487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9"/>
                </a:solidFill>
                <a:latin typeface="Times New Roman"/>
              </a:rPr>
              <a:t>Une nécessaire adaptation du dispositif public au changement de paradigme 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a crise 2005 a mis en évidence… :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Un contexte de concurrrence pour leadership de gestion des crises :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national, régional ou international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Les faiblesses intrinsèques du Dispositif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Niger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dans sa capacité à faire face à une crise sévère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Des faiblesses dans le Dispositif régional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au niveau des </a:t>
            </a:r>
            <a:r>
              <a:rPr b="0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sytèmes d’information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(anticipation hausse des prix) : CILSS/Agrhymet, SMIAR/FAO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au niveau des </a:t>
            </a:r>
            <a:r>
              <a:rPr b="0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politiques de sécurité alimentaire et d’intégration régionale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(face à fermeture frontières) : CILSS, UEMOA, CEDEAO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153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…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t surtout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la crise a mis en évidence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Un  décalage entre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le  « modèle » de Dispositif en place au Niger (et au Sahel)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et l’évolution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(i) des conditions de la sécurité alimentaire des populations vulnérables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(ii) des conditions de l’aide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99"/>
                </a:solidFill>
                <a:latin typeface="Times New Roman"/>
              </a:rPr>
              <a:t>Le Dispositif doit s’adapter à un </a:t>
            </a: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changement de paradigme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a remise en question du schéma type de la crise alimentaire au Sahel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L’origine de la crise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n’est pas liée à un choc, mais au processus de transformation et d’appauvrissement des ménages  ruraux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ffff99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Times New Roman"/>
              </a:rPr>
              <a:t>Nécessite des réponses dans la durée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L’ampleur de la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malnutrition infantile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ffff99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Times New Roman"/>
              </a:rPr>
              <a:t>Nécessite solutions curatives </a:t>
            </a:r>
            <a:r>
              <a:rPr b="0" i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et</a:t>
            </a:r>
            <a:r>
              <a:rPr b="0" i="1" lang="en-US" sz="2800" spc="-1" strike="noStrike">
                <a:solidFill>
                  <a:srgbClr val="ffff99"/>
                </a:solidFill>
                <a:latin typeface="Times New Roman"/>
              </a:rPr>
              <a:t> préventive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Changement du rôle du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marché régiona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Wingdings"/>
                <a:ea typeface="Wingdings"/>
              </a:rPr>
              <a:t></a:t>
            </a:r>
            <a:r>
              <a:rPr b="0" i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99"/>
                </a:solidFill>
                <a:latin typeface="Times New Roman"/>
              </a:rPr>
              <a:t>Assurance sur disponibilités n’est plus garantie par le marché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Plan de l’exposé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799"/>
              </a:spcBef>
              <a:buClr>
                <a:srgbClr val="ffff99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Les dispositifs de prévention / gestion des crises alimentaires dans les pays du Sah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1066680" indent="-609480"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Origines et structure des dispositif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1066680" indent="-609480"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Les spécificités du dispositif du Niger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711360" indent="-711360">
              <a:spcBef>
                <a:spcPts val="799"/>
              </a:spcBef>
              <a:buClr>
                <a:srgbClr val="ffff99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Le DNPGCA du Niger face à la crise de 2005 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1066680" indent="-609480"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La nature de la crise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1066680" indent="-609480"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Le déroulement de la crise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1066680" indent="-609480"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Les réponses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711360" indent="-711360">
              <a:spcBef>
                <a:spcPts val="799"/>
              </a:spcBef>
              <a:buClr>
                <a:srgbClr val="ffff99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Les enseignements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de la crise du Niger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L’évolution des modalités d’alerte et de  mobilisation de l’aide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99"/>
                </a:solidFill>
                <a:latin typeface="Times New Roman"/>
                <a:ea typeface="宋体"/>
              </a:rPr>
              <a:t>Décalage dans les politiques de communication</a:t>
            </a:r>
            <a:r>
              <a:rPr b="0" lang="fr-FR" sz="2800" spc="-1" strike="noStrike">
                <a:solidFill>
                  <a:srgbClr val="ffff99"/>
                </a:solidFill>
                <a:latin typeface="Times New Roman"/>
                <a:ea typeface="宋体"/>
              </a:rPr>
              <a:t> entre :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99"/>
                </a:solidFill>
                <a:uFillTx/>
                <a:latin typeface="Times New Roman"/>
                <a:ea typeface="宋体"/>
              </a:rPr>
              <a:t>Le Dispositif </a:t>
            </a:r>
            <a:r>
              <a:rPr b="0" lang="fr-FR" sz="2400" spc="-1" strike="noStrike">
                <a:solidFill>
                  <a:srgbClr val="ffff99"/>
                </a:solidFill>
                <a:latin typeface="Times New Roman"/>
                <a:ea typeface="宋体"/>
              </a:rPr>
              <a:t>: information à caractère technique diffusée par des canaux spécialisé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99"/>
                </a:solidFill>
                <a:uFillTx/>
                <a:latin typeface="Times New Roman"/>
                <a:ea typeface="宋体"/>
              </a:rPr>
              <a:t>Les acteurs de l’aide humanitaire</a:t>
            </a:r>
            <a:r>
              <a:rPr b="0" lang="fr-FR" sz="2400" spc="-1" strike="noStrike">
                <a:solidFill>
                  <a:srgbClr val="ffff99"/>
                </a:solidFill>
                <a:latin typeface="Times New Roman"/>
                <a:ea typeface="宋体"/>
              </a:rPr>
              <a:t> : mobilisation de l’opinion publique pour inciter à l’action les donateur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99"/>
                </a:solidFill>
                <a:latin typeface="Times New Roman"/>
                <a:ea typeface="宋体"/>
              </a:rPr>
              <a:t>Aujourd’hui, la médiatisation est nécessaire pour </a:t>
            </a:r>
            <a:r>
              <a:rPr b="1" lang="fr-FR" sz="2800" spc="-1" strike="noStrike">
                <a:solidFill>
                  <a:srgbClr val="ffff99"/>
                </a:solidFill>
                <a:latin typeface="Times New Roman"/>
              </a:rPr>
              <a:t> renforcer l’efficacité de l’appel, mais</a:t>
            </a: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Times New Roman"/>
              </a:rPr>
              <a:t>la priorité au plaidoyer se fait au détriment de l’information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 algn="just">
              <a:spcBef>
                <a:spcPts val="499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Times New Roman"/>
              </a:rPr>
              <a:t>la médiatisation de la crise entraîne un changement d’arène  difficile à gérer pour les acteurs du Dispositif </a:t>
            </a:r>
            <a:r>
              <a:rPr b="0" lang="fr-FR" sz="2000" spc="-1" strike="noStrike">
                <a:solidFill>
                  <a:srgbClr val="ffff99"/>
                </a:solidFill>
                <a:latin typeface="Times New Roman"/>
              </a:rPr>
              <a:t>(passage de l’arène locale à l’arène internationale et rôle prépondérant des acteurs de l’aide humanitaire)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a globalisation de l’aide d’urgenc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Elle rend le  dialogue plus difficile entre logique d’assitance humanitaire et logique de prévention / atténuation des crise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2 points de clivage durant la crise du Niger </a:t>
            </a:r>
            <a:r>
              <a:rPr b="0" lang="fr-FR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Sur l’aide humanitaire d’urgence</a:t>
            </a:r>
            <a:r>
              <a:rPr b="0" lang="fr-FR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: </a:t>
            </a:r>
            <a:r>
              <a:rPr b="1" lang="fr-F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tervient avec ses normes</a:t>
            </a:r>
            <a:r>
              <a:rPr b="0" lang="fr-F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« globalisées »,</a:t>
            </a:r>
            <a:r>
              <a:rPr b="0" lang="fr-F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ses procédures, ses spécialistes, ses pratiques, et des moyens sans commune mesure avec ceux d’un dispositif national. </a:t>
            </a:r>
            <a:r>
              <a:rPr b="1" lang="fr-F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Risque d’effets pervers</a:t>
            </a:r>
            <a:r>
              <a:rPr b="0" lang="fr-F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: distributions gratuites et  </a:t>
            </a:r>
            <a:r>
              <a:rPr b="0" lang="fr-FR" sz="2400" spc="-1" strike="noStrike">
                <a:solidFill>
                  <a:srgbClr val="ffff99"/>
                </a:solidFill>
                <a:latin typeface="Times New Roman"/>
                <a:ea typeface="宋体"/>
              </a:rPr>
              <a:t>initiatives non concertée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Sur la référence au droit</a:t>
            </a:r>
            <a:r>
              <a:rPr b="0" lang="fr-F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: droit à la </a:t>
            </a:r>
            <a:r>
              <a:rPr b="1" lang="fr-F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uveraineté sur la politique de sécurité alimentaire</a:t>
            </a:r>
            <a:r>
              <a:rPr b="0" lang="fr-F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versus </a:t>
            </a:r>
            <a:r>
              <a:rPr b="1" lang="fr-F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roit universel à l’alimentation</a:t>
            </a:r>
            <a:r>
              <a:rPr b="0" lang="fr-F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, (qui s’affranchit, si nécessaire, des contraintes institutionnelles locales au nom du </a:t>
            </a:r>
            <a:r>
              <a:rPr b="1" lang="fr-F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evoir d’ingérence)</a:t>
            </a:r>
            <a:r>
              <a:rPr b="0" lang="fr-F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r>
              <a:rPr b="0" lang="fr-FR" sz="2400" spc="-1" strike="noStrike">
                <a:solidFill>
                  <a:srgbClr val="ffff99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our terminer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Times New Roman"/>
              </a:rPr>
              <a:t>A méditer sur les politiques d’aide :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L’énorme écart entre :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le très grand nombre de recommandations des études sur la crise du Niger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et la capacité extrêmement limitée de mise en œuvre des structures locales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9"/>
                </a:solidFill>
                <a:latin typeface="Times New Roman"/>
              </a:rPr>
              <a:t>Merci pour votre attention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3523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. Les dispositifs de prévention / gestion des crises alimentaires dans les pays du Sahel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e Sahel : une zone qui vit avec le risqu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Un environnement à risque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exposition aux risques liée à des aléas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( sécheresse, criquets)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aggravée par facteurs structurels :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pauvreté, faible productivité, dégradation fertilité sols, pâturage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Une histoire jalonnée de famines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avant, pendant, après la colonisation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crises 1973/74 et 1984/85 ont fortement marqué la communauté internationale et les opinions publiques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a politique de prévention / atténua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Objectif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: suppléer les stratégies des ménages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(ex ante : prévenir le risque ;  ex-post : atténuer les conséquences du choc -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idée d’assurance)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Politique s’impose après la libéralisation marchés céréaliers 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Schéma de base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: 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information (alerte / choc) : bilans, SAP, SIM…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stock de sécurité (et autres outils)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structure coordination Etat- donateurs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Mise en œuvre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: à partir fin 80’s tous les pays du CILSS se dotent d’un Dispositif national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L’origine du Dispositif Niger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99"/>
                </a:solidFill>
                <a:latin typeface="Times New Roman"/>
              </a:rPr>
              <a:t>1989 : </a:t>
            </a:r>
            <a:r>
              <a:rPr b="1" lang="fr-FR" sz="3200" spc="-1" strike="noStrike" u="sng">
                <a:solidFill>
                  <a:srgbClr val="ffff99"/>
                </a:solidFill>
                <a:uFillTx/>
                <a:latin typeface="Times New Roman"/>
              </a:rPr>
              <a:t>création du SAP</a:t>
            </a: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« coordination administrative de l’information »  (</a:t>
            </a:r>
            <a:r>
              <a:rPr b="0" lang="fr-FR" sz="2800" spc="-1" strike="noStrike">
                <a:solidFill>
                  <a:srgbClr val="ffff99"/>
                </a:solidFill>
                <a:latin typeface="Symbol"/>
                <a:ea typeface="Symbol"/>
              </a:rPr>
              <a:t></a:t>
            </a: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 Mali)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Autres dispositifs régionaux et internationaux: </a:t>
            </a:r>
            <a:r>
              <a:rPr b="0" lang="fr-FR" sz="2800" spc="-1" strike="noStrike" u="sng">
                <a:solidFill>
                  <a:srgbClr val="ffff99"/>
                </a:solidFill>
                <a:uFillTx/>
                <a:latin typeface="Times New Roman"/>
              </a:rPr>
              <a:t>Fews, SMIAR (FAO), Agryhmet (CILSS)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99"/>
                </a:solidFill>
                <a:latin typeface="Times New Roman"/>
              </a:rPr>
              <a:t>1993-96 : </a:t>
            </a:r>
            <a:r>
              <a:rPr b="1" lang="fr-FR" sz="3200" spc="-1" strike="noStrike" u="sng">
                <a:solidFill>
                  <a:srgbClr val="ffff99"/>
                </a:solidFill>
                <a:uFillTx/>
                <a:latin typeface="Times New Roman"/>
              </a:rPr>
              <a:t>SAP/GC</a:t>
            </a: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« gestion des catastrophes »</a:t>
            </a: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99"/>
                </a:solidFill>
                <a:latin typeface="Times New Roman"/>
              </a:rPr>
              <a:t>1996-99</a:t>
            </a: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 : </a:t>
            </a:r>
            <a:r>
              <a:rPr b="1" lang="fr-FR" sz="3200" spc="-1" strike="noStrike" u="sng">
                <a:solidFill>
                  <a:srgbClr val="ffff99"/>
                </a:solidFill>
                <a:uFillTx/>
                <a:latin typeface="Times New Roman"/>
              </a:rPr>
              <a:t>SAP « routine »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99"/>
                </a:solidFill>
                <a:latin typeface="Times New Roman"/>
              </a:rPr>
              <a:t>1999 </a:t>
            </a: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: le  </a:t>
            </a:r>
            <a:r>
              <a:rPr b="1" lang="fr-FR" sz="3200" spc="-1" strike="noStrike">
                <a:solidFill>
                  <a:srgbClr val="ffff99"/>
                </a:solidFill>
                <a:latin typeface="Times New Roman"/>
              </a:rPr>
              <a:t>DNPGCA, </a:t>
            </a: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le pari d’une</a:t>
            </a:r>
            <a:r>
              <a:rPr b="0" lang="fr-FR" sz="3200" spc="-1" strike="noStrike" u="sng">
                <a:solidFill>
                  <a:srgbClr val="ffff99"/>
                </a:solidFill>
                <a:uFillTx/>
                <a:latin typeface="Times New Roman"/>
              </a:rPr>
              <a:t> </a:t>
            </a:r>
            <a:r>
              <a:rPr b="1" lang="fr-FR" sz="3200" spc="-1" strike="noStrike" u="sng">
                <a:solidFill>
                  <a:srgbClr val="ffff99"/>
                </a:solidFill>
                <a:uFillTx/>
                <a:latin typeface="Times New Roman"/>
              </a:rPr>
              <a:t>gestion commune</a:t>
            </a:r>
            <a:r>
              <a:rPr b="0" lang="fr-FR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ff99"/>
                </a:solidFill>
                <a:latin typeface="Times New Roman"/>
              </a:rPr>
              <a:t>(« </a:t>
            </a: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Relevé de conclusions »</a:t>
            </a: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99"/>
                </a:solidFill>
                <a:latin typeface="Times New Roman"/>
              </a:rPr>
              <a:t>2000 </a:t>
            </a: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fr-FR" sz="3200" spc="-1" strike="noStrike" u="sng">
                <a:solidFill>
                  <a:srgbClr val="ffff99"/>
                </a:solidFill>
                <a:uFillTx/>
                <a:latin typeface="Times New Roman"/>
              </a:rPr>
              <a:t>DNPGCA  renforcé</a:t>
            </a: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,</a:t>
            </a: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  gros appui U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99"/>
                </a:solidFill>
                <a:latin typeface="Times New Roman"/>
              </a:rPr>
              <a:t>2005</a:t>
            </a: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 : signature </a:t>
            </a:r>
            <a:r>
              <a:rPr b="1" lang="fr-FR" sz="3200" spc="-1" strike="noStrike" u="sng">
                <a:solidFill>
                  <a:srgbClr val="ffff99"/>
                </a:solidFill>
                <a:uFillTx/>
                <a:latin typeface="Times New Roman"/>
              </a:rPr>
              <a:t>accord cadre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99"/>
                </a:solidFill>
                <a:latin typeface="Times New Roman"/>
              </a:rPr>
              <a:t>Structures et outils du Dispositif</a:t>
            </a:r>
            <a:r>
              <a:rPr b="0" lang="fr-FR" sz="3600" spc="-1" strike="noStrike">
                <a:solidFill>
                  <a:srgbClr val="ffff99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99"/>
                </a:solidFill>
                <a:uFillTx/>
                <a:latin typeface="Times New Roman"/>
              </a:rPr>
              <a:t>Les structures</a:t>
            </a: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Times New Roman"/>
              </a:rPr>
              <a:t>Organe commun : CMC / CRC (Commission Mixte de concertation) </a:t>
            </a:r>
            <a:r>
              <a:rPr b="0" lang="fr-FR" sz="2000" spc="-1" strike="noStrike">
                <a:solidFill>
                  <a:srgbClr val="ffff99"/>
                </a:solidFill>
                <a:latin typeface="Times New Roman"/>
              </a:rPr>
              <a:t>signataires :</a:t>
            </a:r>
            <a:r>
              <a:rPr b="0" lang="fr-FR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ff99"/>
                </a:solidFill>
                <a:latin typeface="Times New Roman"/>
              </a:rPr>
              <a:t>UE, France, RFA, USAID, Suisse et PAM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Times New Roman"/>
              </a:rPr>
              <a:t>Bien commun : SNR (SNS + FSA)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Times New Roman"/>
              </a:rPr>
              <a:t>Bien commun des donateurs : FCD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99"/>
                </a:solidFill>
                <a:uFillTx/>
                <a:latin typeface="Times New Roman"/>
              </a:rPr>
              <a:t>Les outils</a:t>
            </a: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 :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Times New Roman"/>
              </a:rPr>
              <a:t>CCA (Cellule Crises Alimentaire, Cabinet 1er Ministre)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Times New Roman"/>
              </a:rPr>
              <a:t>SAP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Times New Roman"/>
              </a:rPr>
              <a:t>OPVN (gestion par contrat-Plan avec l’Etat)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99"/>
                </a:solidFill>
                <a:uFillTx/>
                <a:latin typeface="Times New Roman"/>
              </a:rPr>
              <a:t>Les moyens d’intervention</a:t>
            </a: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Aide alimentaire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Ventes à prix modérés, distribution semences/intrant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Actions d’atténuation (micro-réalisations)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Caractéristiques du Niger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Population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: 12 millions hab, majorité jeune et rurale,   concentrée dans la partie méridionale. Forte croissance (3,1%)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Concentration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population et agriculture dans partie méridionale  (10% territoire bénéficie pluviométrie  &gt; 350 mm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Agriculture + élevage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: secteur clé de l’économie. Surfaces irriguées faibles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Pauvreté massive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, en particulier en milieu rural (dernier rang IDH / PNUD) .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Rôle déterminant du Nigeria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voisin dans la sécurité alimentaire (approvisionnement et revenus)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8:30:36Z</dcterms:created>
  <dc:creator>EGG</dc:creator>
  <dc:description/>
  <dc:language>en-US</dc:language>
  <cp:lastModifiedBy>EGG</cp:lastModifiedBy>
  <dcterms:modified xsi:type="dcterms:W3CDTF">2007-03-13T05:13:42Z</dcterms:modified>
  <cp:revision>13</cp:revision>
  <dc:subject/>
  <dc:title>Politique publique,  jeux d’acteurs  et dépendance de sentier :  la sécurité alimentaire au  Niger </dc:title>
</cp:coreProperties>
</file>